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7CA288-75B2-448D-9AE4-74F4300F6D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267AEB-CA49-49B6-90D8-8186B1D170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E2E544-5AB1-47C7-8A9E-C532810419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F23325-E6FF-4968-AB55-E4E2516939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F8C10B-3DF6-46B7-8D39-C1F2282AEB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2C0397-6C94-4878-BEFF-FB330B2BBB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B74AA4-17B5-4684-8C5A-0DC007B998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EF453B-098E-4B27-9413-080C30348A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240F2B-0AC9-4EC9-A349-E84C7D7A6C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D867CD-8BA5-4E07-840A-6579E3940A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6C44C0-95F1-478C-94F0-2C1105C4FE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6068A7-2BE9-4F3E-B20F-DEB8EE299B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C62039-5898-4681-8447-0EB32A32DA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815D7F-ACD1-4664-8671-19745756AD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41F0C5-7829-4DE4-8BEE-A374F59AA4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F64792-CE20-467B-86CD-16BCB7B059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E39053-C846-42F3-8945-AD6FB25CB7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FBE27A6-9933-4064-9206-22FB7CDBE5C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B5A5CF-582D-4776-AA27-2A8CC04016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5DCF82-4BDC-497A-9058-D3F88E4216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C7F448-B057-4AAA-9B85-F289CA8BC5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19447C-2796-409D-802E-A89CABFA92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85EA43-2E65-46C0-BC3A-B2521678EE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3DA07C-2371-4DEE-B4BD-30A4B35F8D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7A07B8-4938-4985-AF30-EB4E230C4E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5B9E82-5F95-4009-95BA-4B2777C3D7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FB6B06-AABD-4643-8667-87CD5F6296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6B84F8-DF03-4169-9D9C-81485B50D1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93C622A-BCDE-4063-926F-4DA431DB3C2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46EAAB0-F221-49CA-B55E-AC9DDF03A8D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260E08-1622-4529-9850-F531176F32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10F138-541F-4FE2-85DF-BF76C8090D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7D878F-0BD1-4A7C-BE91-C3FE41F37B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14E9DE-522A-4B8C-B6C4-CB34B2923E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B75C6-4D9B-46E2-A998-80D411DEA8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0C0BBB-0A5E-4D0F-8E00-8887176C0F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B91D4-61A5-4B29-95CA-A707E342EF8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41" name=""/>
          <p:cNvGrpSpPr/>
          <p:nvPr/>
        </p:nvGrpSpPr>
        <p:grpSpPr>
          <a:xfrm>
            <a:off x="0" y="0"/>
            <a:ext cx="9140760" cy="6851520"/>
            <a:chOff x="0" y="0"/>
            <a:chExt cx="9140760" cy="6851520"/>
          </a:xfrm>
        </p:grpSpPr>
        <p:sp>
          <p:nvSpPr>
            <p:cNvPr id="42"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3"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54" name=""/>
            <p:cNvGrpSpPr/>
            <p:nvPr/>
          </p:nvGrpSpPr>
          <p:grpSpPr>
            <a:xfrm>
              <a:off x="304920" y="3625920"/>
              <a:ext cx="1990440" cy="1465200"/>
              <a:chOff x="304920" y="3625920"/>
              <a:chExt cx="1990440" cy="1465200"/>
            </a:xfrm>
          </p:grpSpPr>
          <p:sp>
            <p:nvSpPr>
              <p:cNvPr id="55"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6"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5"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6"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0"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1"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73"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5"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8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8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82"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Verdana"/>
              </a:rPr>
              <a:t>&lt;date/time&gt;</a:t>
            </a:r>
            <a:endParaRPr b="0" lang="en-US" sz="1000" spc="-1" strike="noStrike">
              <a:solidFill>
                <a:srgbClr val="000000"/>
              </a:solidFill>
              <a:latin typeface="Arial"/>
            </a:endParaRPr>
          </a:p>
        </p:txBody>
      </p:sp>
      <p:sp>
        <p:nvSpPr>
          <p:cNvPr id="8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Arial"/>
            </a:endParaRPr>
          </a:p>
        </p:txBody>
      </p:sp>
      <p:sp>
        <p:nvSpPr>
          <p:cNvPr id="84"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76EB7-E6D7-44C0-A7C8-F552463B4C86}" type="slidenum">
              <a:rPr b="0" lang="en-US" sz="1000" spc="-1" strike="noStrike">
                <a:solidFill>
                  <a:srgbClr val="ffffff"/>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121" name=""/>
          <p:cNvGrpSpPr/>
          <p:nvPr/>
        </p:nvGrpSpPr>
        <p:grpSpPr>
          <a:xfrm>
            <a:off x="0" y="0"/>
            <a:ext cx="9140760" cy="6851520"/>
            <a:chOff x="0" y="0"/>
            <a:chExt cx="9140760" cy="6851520"/>
          </a:xfrm>
        </p:grpSpPr>
        <p:sp>
          <p:nvSpPr>
            <p:cNvPr id="122"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3"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34" name=""/>
            <p:cNvGrpSpPr/>
            <p:nvPr/>
          </p:nvGrpSpPr>
          <p:grpSpPr>
            <a:xfrm>
              <a:off x="304920" y="3625920"/>
              <a:ext cx="1990440" cy="1465200"/>
              <a:chOff x="304920" y="3625920"/>
              <a:chExt cx="1990440" cy="1465200"/>
            </a:xfrm>
          </p:grpSpPr>
          <p:sp>
            <p:nvSpPr>
              <p:cNvPr id="135"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36"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45"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46"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50"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51"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53"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55"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60"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61" name="PlaceHolder 2"/>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Verdana"/>
              </a:rPr>
              <a:t>&lt;date/time&gt;</a:t>
            </a:r>
            <a:endParaRPr b="0" lang="en-US" sz="1000" spc="-1" strike="noStrike">
              <a:solidFill>
                <a:srgbClr val="000000"/>
              </a:solidFill>
              <a:latin typeface="Arial"/>
            </a:endParaRPr>
          </a:p>
        </p:txBody>
      </p:sp>
      <p:sp>
        <p:nvSpPr>
          <p:cNvPr id="162"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Arial"/>
            </a:endParaRPr>
          </a:p>
        </p:txBody>
      </p:sp>
      <p:sp>
        <p:nvSpPr>
          <p:cNvPr id="163" name="PlaceHolder 4"/>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7736B-ADA4-45AD-88E8-D7E41B04FE7E}" type="slidenum">
              <a:rPr b="0" lang="en-US" sz="1000" spc="-1" strike="noStrike">
                <a:solidFill>
                  <a:srgbClr val="ffffff"/>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SIMFONIA</a:t>
            </a:r>
            <a:r>
              <a:rPr b="1" lang="en-US" sz="1400" spc="-1" strike="noStrike">
                <a:solidFill>
                  <a:srgbClr val="000000"/>
                </a:solidFill>
                <a:latin typeface="Arial"/>
              </a:rPr>
              <a:t> </a:t>
            </a:r>
            <a:endParaRPr b="0" lang="en-US" sz="1400" spc="-1" strike="noStrike">
              <a:solidFill>
                <a:srgbClr val="000000"/>
              </a:solidFill>
              <a:latin typeface="Calibri"/>
            </a:endParaRPr>
          </a:p>
        </p:txBody>
      </p:sp>
      <p:sp>
        <p:nvSpPr>
          <p:cNvPr id="201" name="PlaceHolder 2"/>
          <p:cNvSpPr>
            <a:spLocks noGrp="1"/>
          </p:cNvSpPr>
          <p:nvPr>
            <p:ph type="subTitle"/>
          </p:nvPr>
        </p:nvSpPr>
        <p:spPr>
          <a:xfrm>
            <a:off x="1371600" y="388584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a:t>
            </a:r>
            <a:r>
              <a:rPr b="0" lang="ro-RO" sz="1000" spc="-1" strike="noStrike">
                <a:solidFill>
                  <a:srgbClr val="000000"/>
                </a:solidFill>
                <a:latin typeface="Arial"/>
              </a:rPr>
              <a:t> </a:t>
            </a:r>
            <a:r>
              <a:rPr b="0" i="1" lang="ro-RO" sz="1000" spc="-1" strike="noStrike">
                <a:solidFill>
                  <a:srgbClr val="000000"/>
                </a:solidFill>
                <a:latin typeface="Arial"/>
              </a:rPr>
              <a:t>Educaţie muzicală, clasa a VIII-a</a:t>
            </a:r>
            <a:r>
              <a:rPr b="0" lang="ro-RO" sz="1000" spc="-1" strike="noStrike">
                <a:solidFill>
                  <a:srgbClr val="000000"/>
                </a:solidFill>
                <a:latin typeface="Arial"/>
              </a:rPr>
              <a:t>, Jean Lupu, Lucia Marinescu Dănilă, Georgeta Obreja</a:t>
            </a:r>
            <a:r>
              <a:rPr b="0" lang="ro-RO" sz="1000" spc="-1" strike="noStrike">
                <a:solidFill>
                  <a:srgbClr val="000000"/>
                </a:solidFill>
                <a:latin typeface="Arial"/>
              </a:rPr>
              <a:t>)</a:t>
            </a:r>
            <a:endParaRPr b="0" lang="en-US" sz="1000" spc="-1" strike="noStrike">
              <a:solidFill>
                <a:srgbClr val="000000"/>
              </a:solidFill>
              <a:latin typeface="Calibri"/>
            </a:endParaRPr>
          </a:p>
        </p:txBody>
      </p:sp>
      <p:sp>
        <p:nvSpPr>
          <p:cNvPr id="202"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
        <p:nvSpPr>
          <p:cNvPr id="203"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siunea iunie - iuli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04" name=""/>
          <p:cNvSpPr txBox="1"/>
          <p:nvPr/>
        </p:nvSpPr>
        <p:spPr>
          <a:xfrm>
            <a:off x="468000" y="907920"/>
            <a:ext cx="4390920" cy="555480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a:t>
            </a:r>
            <a:r>
              <a:rPr b="0" lang="ro-RO" sz="1200" spc="-1" strike="noStrike">
                <a:solidFill>
                  <a:srgbClr val="000000"/>
                </a:solidFill>
                <a:latin typeface="Arial"/>
                <a:ea typeface="Calibri"/>
              </a:rPr>
              <a:t>Simfonia este cea mai lirică dintre toate formele muzicale. Nu trebuie ea oare să exprime tot ceea ce nu poate fi exprimat în cuvinte, ceea ce izvorăşte năvalnic din inimă şi cere a fi rostit?” (Piotr Ilici Ceaikovski) [...]</a:t>
            </a:r>
            <a:endParaRPr b="0" lang="en-US" sz="1200" spc="-1" strike="noStrike">
              <a:solidFill>
                <a:srgbClr val="ffffff"/>
              </a:solidFill>
              <a:latin typeface="Verdana"/>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Simfonia, în sensul consacrat de clasici, este o compoziţie amplă – pentru orchestră simfonică – alcătuită din patru părţi. </a:t>
            </a:r>
            <a:endParaRPr b="0" lang="en-US" sz="1200" spc="-1" strike="noStrike">
              <a:solidFill>
                <a:srgbClr val="ffffff"/>
              </a:solidFill>
              <a:latin typeface="Verdana"/>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Discursul muzical este precedat, uneori, de o introducere – menită să capteze atenţia ascultătorului, să-l transpună într-o stare sufletească favorabilă urmăririi simfoniei. [...]</a:t>
            </a:r>
            <a:endParaRPr b="0" lang="en-US" sz="1200" spc="-1" strike="noStrike">
              <a:solidFill>
                <a:srgbClr val="ffffff"/>
              </a:solidFill>
              <a:latin typeface="Verdana"/>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Secolul al XVII-lea – Preclasicismul muzical (Barocul) – epoca polifoniei instrumentale. Unul dintre izvoarele simfoniei îl reprezintă suita instrumentală, cu alternanţa tempourilor dansurilor ce o alcătuiesc.</a:t>
            </a:r>
            <a:endParaRPr b="0" lang="en-US" sz="1200" spc="-1" strike="noStrike">
              <a:solidFill>
                <a:srgbClr val="ffffff"/>
              </a:solidFill>
              <a:latin typeface="Verdana"/>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Anumite lucrări polifonice orchestrale şi vocal-instrumentale din această perioadă sunt alcătuite din 3-4 părţi şi poartă numele de simfonie.</a:t>
            </a:r>
            <a:r>
              <a:rPr b="0" lang="en-US" sz="1200" spc="-1" strike="noStrike">
                <a:solidFill>
                  <a:srgbClr val="000000"/>
                </a:solidFill>
                <a:latin typeface="Arial"/>
                <a:ea typeface="Calibri"/>
              </a:rPr>
              <a:t> […]</a:t>
            </a:r>
            <a:endParaRPr b="0" lang="en-US" sz="1200" spc="-1" strike="noStrike">
              <a:solidFill>
                <a:srgbClr val="ffffff"/>
              </a:solidFill>
              <a:latin typeface="Verdana"/>
            </a:endParaRPr>
          </a:p>
        </p:txBody>
      </p:sp>
      <p:sp>
        <p:nvSpPr>
          <p:cNvPr id="205" name="Text Box 5"/>
          <p:cNvSpPr/>
          <p:nvPr/>
        </p:nvSpPr>
        <p:spPr>
          <a:xfrm>
            <a:off x="539640" y="260280"/>
            <a:ext cx="8353440" cy="63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Examenul de bacalaureat 201</a:t>
            </a:r>
            <a:r>
              <a:rPr b="0" lang="en-US" sz="1000" spc="-1" strike="noStrike">
                <a:solidFill>
                  <a:srgbClr val="ffffff"/>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Proba de evaluare a competentelor digitale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206" name="Picture 10" descr=""/>
          <p:cNvPicPr/>
          <p:nvPr/>
        </p:nvPicPr>
        <p:blipFill>
          <a:blip r:embed="rId1"/>
          <a:stretch/>
        </p:blipFill>
        <p:spPr>
          <a:xfrm>
            <a:off x="5214960" y="928800"/>
            <a:ext cx="3002040" cy="3001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txBox="1"/>
          <p:nvPr/>
        </p:nvSpPr>
        <p:spPr>
          <a:xfrm>
            <a:off x="468360" y="836640"/>
            <a:ext cx="8229600" cy="5268960"/>
          </a:xfrm>
          <a:prstGeom prst="rect">
            <a:avLst/>
          </a:prstGeom>
          <a:noFill/>
          <a:ln w="0">
            <a:noFill/>
          </a:ln>
        </p:spPr>
        <p:txBody>
          <a:bodyPr anchor="t">
            <a:normAutofit/>
          </a:bodyPr>
          <a:p>
            <a:pPr marL="609480" indent="-609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hestionar: [...]</a:t>
            </a:r>
            <a:r>
              <a:rPr b="0" lang="ro-RO" sz="1200" spc="-1" strike="noStrike">
                <a:solidFill>
                  <a:srgbClr val="000000"/>
                </a:solidFill>
                <a:latin typeface="Arial"/>
              </a:rPr>
              <a:t>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arcaţi prin săgeţi corespondenţa dintre elementele [...]:</a:t>
            </a:r>
            <a:r>
              <a:rPr b="0" lang="ro-RO" sz="1200" spc="-1" strike="noStrike">
                <a:solidFill>
                  <a:srgbClr val="000000"/>
                </a:solidFill>
                <a:latin typeface="Arial"/>
              </a:rPr>
              <a:t>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 Schumann, J. Sibelius, H. Berlioz, A. Dvorak, G. Mahler, I. Stravinsk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rancez, ceh, austriac, rus, finlandez, german.</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ranscrieţi următoarele numere şi scrieţi în dreptul fiecăruia numele compozitorului care a scris:</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4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5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11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9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7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6 simfonii.</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Copiaţi pe caiete şi completaţi grila următoa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Simfonia _ _ _ _ _ S _ _ _ _ de Berlioz;</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Compozitor francez (Hector _ _ _ _ I _ _);</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În Romantism, numărul părţilor se _ _ _ _ F _ _ _;</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Simfonie cu _ _ O _ _ _ _.</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sofica</cp:lastModifiedBy>
  <dcterms:modified xsi:type="dcterms:W3CDTF">2012-06-18T11:10:13Z</dcterms:modified>
  <cp:revision>47</cp:revision>
  <dc:subject/>
  <dc:title>SALARIUL</dc:title>
</cp:coreProperties>
</file>